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536-808B-4EC4-B8AB-A7B91C74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E48-061C-4A78-93D0-4A1B00B0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FCC-E7B8-4297-A5FA-D8DD9F65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463-2C34-42BC-ACF6-621BB2C4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061-0D5D-435E-B13D-907A6842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FDD-2EBB-460E-B5AC-AD0D8271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413-6BE4-4B8F-B493-8447A71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AFE-72A6-481D-904E-232C9D12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952-E8BE-4748-B41A-6EE3ABB0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E2A-9D7A-4C0D-92B3-97CEF51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E19-E9B0-45FA-8DC4-99CD5D0B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967-92B3-452E-9DEA-4887447F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5419-4066-4E7D-9FF7-E82BB79086E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brasil.gov.br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708280"/>
            <a:ext cx="830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106200"/>
            <a:ext cx="1876320" cy="87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115920"/>
            <a:ext cx="2514600" cy="83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1600200"/>
            <a:ext cx="799308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Arial"/>
              </a:rPr>
              <a:t>Resolução de Reúso de Água – CN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ONSELH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âmara Técnica de Ciência e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XVI Simpósio Brasileir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029200"/>
            <a:ext cx="820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99"/>
                </a:solidFill>
                <a:latin typeface="Times New Roman"/>
              </a:rPr>
              <a:t>Engº Agrº Devanir Garcia dos Santos</a:t>
            </a:r>
            <a:br>
              <a:rPr sz="1600"/>
            </a:b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MSc Gestão Econômica do Meio Ambiente</a:t>
            </a:r>
            <a:br>
              <a:rPr sz="1600"/>
            </a:b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Gerente da Superintendência de Conservação de Água e Solo</a:t>
            </a:r>
            <a:br>
              <a:rPr sz="1600"/>
            </a:br>
            <a:br>
              <a:rPr sz="1600"/>
            </a:br>
            <a:r>
              <a:rPr b="1" lang="pt-BR" sz="2000" spc="-1" strike="noStrike">
                <a:solidFill>
                  <a:srgbClr val="009999"/>
                </a:solidFill>
                <a:latin typeface="Times New Roman"/>
              </a:rPr>
              <a:t>João Pessoa - Novembr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602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POSTA DE RESOLUÇÃ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Considera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reúso de água constitui prática de racion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escassez está relacionada a aspectos de qualidade e quantidade de ág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ão elevados os custos de tratamento da ág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prática de reúso contribui para a proteção do meio amb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inalidade: estabelecer modalidades, diretrizes, critérios gerais que regulamentem e estimulem a prática de reúso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rbano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irrigação paisagística, lavagem de logradouros públicos, desobstrução de tubulações,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grícolas e florestai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aplicação de água de reúso para produção agrícola e cultivo de florestas plantada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mbientai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utilização de água de reúso para a implantação de projetos de recuperação ambien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dustriais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( utilização de água de reúso em processos, atividades e operações industriai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qüicultura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 utilização de água de reúso para a criação de animais ou cultivo de vegetais aquát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cipais propostas da resolu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órgãos integrantes do SINGREH avaliarão os efeitos sobre os corpos hídricos e estabelecerão instrumentos regulatórios e de ince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planos de recursos hídricos deverão contemplar estudos de alternativas de utilização da água de reú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SIRH deverão incorporar, organizar e tornar disponíveis  as informações sobre práticas de reuso necessárias  ao gerenciamento dos recursos hídr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comitês dever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por, na implementação da cobrança pelo uso da água, instrumento econômicos e financeiros que induzam a prática do reú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tegrar, no âmbito do Plano de Recursos Hídricos da bacia, a prática do reúso com as ações de saneamento ambiental e de uso e ocupação do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incipais propostas da resol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ividade de reúso de água deverá ser informada, quando requerida, ao órgão gesto de recursos hídricos, para fins de cadast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verão ser incentivado e promovidos programas de capacitação, mobilização social e informação quanto a sustentabilidade do reúso, em especial nos aspectos sanitários e ambien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disposto nesta Resolução não exime o produtor, o distribuidor e o usuário de água de reúso não potável da respectiva licença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40240" y="3922560"/>
            <a:ext cx="4575240" cy="2901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40240" y="846000"/>
            <a:ext cx="4575240" cy="2901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1800" y="2536920"/>
            <a:ext cx="2384280" cy="3462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96720" y="1057320"/>
            <a:ext cx="355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OLUIÇÃO NO RIO TIET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012000"/>
            <a:ext cx="33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Verdana"/>
              </a:rPr>
              <a:t>Pirapora do Bom Jesus /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41640" y="3083040"/>
            <a:ext cx="5202360" cy="377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76720" cy="3843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92720" y="47628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o Tietê – Década de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50133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1280" y="1484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o Tietê – Década de 90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1989000"/>
            <a:ext cx="358560" cy="719280"/>
          </a:xfrm>
          <a:prstGeom prst="downArrow">
            <a:avLst>
              <a:gd name="adj1" fmla="val 50000"/>
              <a:gd name="adj2" fmla="val 501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530064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9079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501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79736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?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877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o Tietê – Em 204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3789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Setor Policial - Área 5 – Quadra 3 - Bloco L - Brasília – DF - 70610-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Telefone: (61) 2109-5212 - sas@ana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http://www.an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devanir@an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Obriga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0"/>
            <a:ext cx="9140760" cy="907920"/>
          </a:xfrm>
          <a:custGeom>
            <a:avLst/>
            <a:gdLst/>
            <a:ahLst/>
            <a:rect l="l" t="t" r="r" b="b"/>
            <a:pathLst>
              <a:path w="5740" h="1906">
                <a:moveTo>
                  <a:pt x="0" y="0"/>
                </a:moveTo>
                <a:lnTo>
                  <a:pt x="0" y="1906"/>
                </a:lnTo>
                <a:lnTo>
                  <a:pt x="5740" y="1906"/>
                </a:lnTo>
                <a:lnTo>
                  <a:pt x="57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0"/>
            <a:ext cx="36352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16747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5508720" y="0"/>
            <a:ext cx="3635280" cy="1598760"/>
            <a:chOff x="5508720" y="0"/>
            <a:chExt cx="3635280" cy="15987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508720" y="263520"/>
              <a:ext cx="363528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572440" y="0"/>
              <a:ext cx="354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Hv BT"/>
                </a:rPr>
                <a:t>MINISTÉRIO DO MEIO AMB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9:37:57Z</dcterms:created>
  <dc:creator>devanir</dc:creator>
  <dc:description/>
  <dc:language>en-US</dc:language>
  <cp:lastModifiedBy>devanir</cp:lastModifiedBy>
  <dcterms:modified xsi:type="dcterms:W3CDTF">2005-11-17T14:57:38Z</dcterms:modified>
  <cp:revision>22</cp:revision>
  <dc:subject/>
  <dc:title>Slide 1</dc:title>
</cp:coreProperties>
</file>